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16A-5A3B-493D-AA96-C42C2F93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C0D-CD68-4E42-9471-5B2A2830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FDC-7724-463D-8AF9-95B5734B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21E-DE40-4045-A3FB-F3919786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04B-C881-4F2C-8F3B-01565DF5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D83-5C0E-407C-A39D-F0927817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D06-3538-4E12-9EB5-A9401863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057-29E0-45E1-ACC2-C59C9E94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629-8855-49CF-8E2D-CC96C787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6E8-2F72-472E-8005-D640B9E4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144-CE01-4F82-8EC8-82357B99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490-DBFF-4174-8CE0-D8896889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5D84-B398-415B-A5C2-3500A4E5FE1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asrelacionespublicas.com/cont/comunicacio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58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Book Antiqua"/>
              </a:rPr>
              <a:t>CÓMO HACER UN PLAN DE MEDIO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428760" y="2019240"/>
            <a:ext cx="82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Book Antiqua"/>
              </a:rPr>
              <a:t>EL PLANIFICADOR DE MEDIO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357120" y="88092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Saber interpretar los problemas de mark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Ser capaz de analizar adecuadamente las necesidades de comunicación, considerando el aspecto creativo para saber potenciarlo a través de la estrategia de 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Dominar el mundo de los medios de comunicación: sus características, sus valores y sus limitaciones, para saberlos aprovechar o rechazar en cada circunstanci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642960" y="138744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Desarrollar su juicio crítico, su perspicacia y su capacidad de anticipación y de previsión del futuro próxim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Poseer agilidad suficiente para presentar sus trabajos, argumentar, explicar detalladamente y defender las tesis en las que fundamenta sus propue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357120" y="5968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ADEMÁ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Necesita estar familiarizado con la investigación y sus técn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Saber interpretar datos y utilizar aquellos que realmente tengan sentido para la decisión que haya que tom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No perderse en tablas numéricas y gráficos, sino saber elegir el dato necesari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500040" y="642960"/>
            <a:ext cx="8072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Debe tener una mente ordenada. Tiene que disponer de un motivo y un objeto para cada decisión que tome o propon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Debe tener una mentalidad abierta a cualquier idea, por complicada que parezca, y nunca debe rechazarla sin haberla analiz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Deberá estar bien informado. Cualquier noticia, por trivial que parezca, puede afectar a su trabajo y convertirse en una fuente de orientaciones y novedad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428760" y="189720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FUENTE: Ma. Ángeles González Lobo y Enrique Carrero López. 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Manual de Planificación de Medios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. Ed. Escuela Superior de Gestión comercial y Marketing (ESIC) Madrid.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571680" y="88272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EXISTEN DOS ETAP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La primera etapa es en la que el planificador tiene que escuchar y estar atento a cualquier dato que le proporcionen; se tiene que adoptar una postura de búsqueda activa de inform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La segunda es la fase más activa, en la que pone en acción sus conocimientos y su mecánica de trabajo para confeccionar el plan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CuadroTexto"/>
          <p:cNvSpPr/>
          <p:nvPr/>
        </p:nvSpPr>
        <p:spPr>
          <a:xfrm>
            <a:off x="357120" y="663480"/>
            <a:ext cx="850104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NUEVE PASOS PARA EL PLAN DE MEDI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1er.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ANÁLISIS DE ANTECEDENTE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) Estudio del briefing (el producto, el mercado, el consumidor, la competencia, la distribución, los objetivos de marketing, etc.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b) Análisis de la actividad publicitaria de la competencia (inversiones, medios utilizados, niveles de intensidad, etc.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c) Análisis de la estrategia general de </a:t>
            </a:r>
            <a:r>
              <a:rPr b="0" lang="es-ES" sz="2800" spc="-1" strike="noStrike" u="sng">
                <a:solidFill>
                  <a:srgbClr val="0000ff"/>
                </a:solidFill>
                <a:uFillTx/>
                <a:latin typeface="Book Antiqua"/>
                <a:hlinkClick r:id="rId1"/>
              </a:rPr>
              <a:t>comunicación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. → Fase de Inform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571680" y="1500120"/>
            <a:ext cx="8072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2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DEFINICIÓN DE OBJE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) Definición del Público Objetivo para medios (target audience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b) Definición de los objetivos a alcanzar con los medios → Fase de 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428760" y="642960"/>
            <a:ext cx="8286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3er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RECOMENDACIÓN DE 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) Análisis del consumo de los medios por parte del público objetivo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b) Examen de los factores cuantitativos y cualitativos que aconsejan utilizar o rechazar unos u otros medio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c) Determinación de la intensidad necesaria para conseguir eficiencia y competitividad en cada medio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d) Distribución del presupuesto por medios → Fase de 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500040" y="240192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4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RECOMENDACIÓN DE PERÍODOS DE ACTIVIDAD Y DE INTENSIDADES Y PRESUPUESTO PARA CADA PERÍO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500040" y="714240"/>
            <a:ext cx="8215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5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SELECCIÓN Y RECOMENDACIÓN DE SOPOR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) Obtención del ranking de soportes (audiencia, costes, rentabilidad, afinidad, etc.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b) Examen de los factores cuantitativos y cualitativos que aconsejan incluir o rechazar unos u otro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d) Evaluación de los resultados de cada alternativa, incluida su valoración económica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) Elección de la alternativa más conveniente para conseguir los objetivos pro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428760" y="1677960"/>
            <a:ext cx="8286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6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ELABORACIÓN DEL CALENDARIO DE INSERCIONES Y DEL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) Resumen gráfico de la campaña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b) Confección del presupuesto total y desglosado por períodos y por med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857160" y="11714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7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RESUMEN DE RESULTADOS ESPERADOS (EVALU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8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RECOMENDACIONES PARA LA NEGOCIACIÓN Y COMP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9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SEGU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07:46:30Z</dcterms:created>
  <dc:creator>Manuel Marquez</dc:creator>
  <dc:description/>
  <dc:language>en-US</dc:language>
  <cp:lastModifiedBy>Manuel Marquez</cp:lastModifiedBy>
  <dcterms:modified xsi:type="dcterms:W3CDTF">2003-01-25T08:09:34Z</dcterms:modified>
  <cp:revision>2</cp:revision>
  <dc:subject/>
  <dc:title>CÓMO HACER UN PLAN DE MEDIOS</dc:title>
</cp:coreProperties>
</file>